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7B3-CACB-41EC-84BD-2CB21608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78C-382B-4237-BC7C-4C1D4116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96C-F20A-4D36-A9A1-0A8E27E7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BAD-838F-4F23-B4DA-FED1C31F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C605-E77A-4E72-8251-5E604F3A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F2C4-38C8-4DE7-A5AE-5E31D878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BF9-C842-4131-81B5-7CE26882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D8C-E73B-49FA-8AC1-6D8CE22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3C37-D4CD-4EA8-B7FD-F3B01DA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D429-0ECF-466E-8051-3EBC861D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BF47-353E-46DC-8F0B-97B5D62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212-16B1-4DE9-9ED4-FE251C50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4AC-053C-429F-BA00-FF4D8B0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A11E-D78E-4D44-AFA7-4426F1D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051-C1B2-40F2-921E-D23731BB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27D6-3A2F-40FF-87F0-E17DD924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868-1753-458A-8D74-7A6D4D27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BA4-8FD0-4603-8C21-D655966E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3DB-575E-41D0-9CE3-1814608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DD2-8379-490F-94FC-837AC084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7CC-A7A2-4F38-A072-0FC71B76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0B3-CEED-4F74-BBD6-6E7FE12C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436-8B61-4B29-AFB5-9E4F7A7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793-0581-4154-93FA-C53EB520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55F2-E994-4C99-9CCB-DFA3D89DB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499E-BFD5-494E-8A92-D7168693C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Reed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on Anne O’Connor-Petr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ym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Olympics for High School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 Olym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Effective way to identify exceptional 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Initiates Academic Olympics in 1934 in Mosc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s Academic Olympics to other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s to Most of the USSR and Soviet Block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viet Olympic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exceptional 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Tal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Talent wher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Olympiads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exceptional t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ince Talented to enter Science/Engineering (S/E) Pipe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Olympians will make contributions to the 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Olympi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ed identified by demanding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20 students in the nation are identifi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Camp trains best 5 or 6 for international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ympiad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pectiv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, Chemistry,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Involved: USA, Taiwan, China, Korea, Finland,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 Olympians fulfill their high potent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factors helped or hindered the development of Olympian’s tal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ow effective are the Olympiad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12:02:09Z</dcterms:created>
  <dc:creator>Dr. Campbell</dc:creator>
  <dc:description/>
  <dc:language>en-US</dc:language>
  <cp:lastModifiedBy>Dr. O'Connor-Petruso</cp:lastModifiedBy>
  <dcterms:modified xsi:type="dcterms:W3CDTF">2008-09-13T22:02:52Z</dcterms:modified>
  <cp:revision>8</cp:revision>
  <dc:subject/>
  <dc:title>INTRODUCTION</dc:title>
</cp:coreProperties>
</file>